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A00-C05E-4BCF-A31B-5249BCFA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C1C-7665-44C3-B996-1E191517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F8D-FCDD-4985-AC23-3AE8F1D1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EB6-D912-4D30-AFC9-21917B84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AAAF-144B-491B-8E1A-8B5D7718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B76D-2459-4572-BAFD-EAC08269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7CB-AB0A-47E3-8B1F-28C1BBA3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954-D481-40B5-B4D3-62461D5D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DC21-C42B-4DF5-ABF1-F797AB5B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8FAF-D7C3-40EC-ADF2-30866232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EEB-A0D7-412B-B1D5-49417211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9074-5DFE-45ED-AEDF-7B7ED120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5F16-BE47-4D75-8950-EB4AC87C3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1182960" cy="1212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974880" cy="1295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81080" y="304920"/>
            <a:ext cx="121140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1122480" cy="1218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rcRect l="0" t="0" r="62115" b="0"/>
          <a:stretch/>
        </p:blipFill>
        <p:spPr>
          <a:xfrm>
            <a:off x="7543800" y="228600"/>
            <a:ext cx="102888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143000" y="2743200"/>
            <a:ext cx="1368360" cy="995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505320" y="2362320"/>
            <a:ext cx="874440" cy="1409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105520" y="4495680"/>
            <a:ext cx="687240" cy="1282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858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8195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2743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1828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32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8381880" y="159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4038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2670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657600" y="5943600"/>
            <a:ext cx="48006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la mia famiglia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95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2743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828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32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381880" y="159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91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4038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670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657600" y="5943600"/>
            <a:ext cx="48006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la mia famiglia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3717720" cy="4038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3074760" cy="4952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553080" y="2362320"/>
            <a:ext cx="2289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592600" y="3352680"/>
            <a:ext cx="3270240" cy="3353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809880" y="304920"/>
            <a:ext cx="2522520" cy="3352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652480" cy="3504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rcRect l="0" t="0" r="62115" b="0"/>
          <a:stretch/>
        </p:blipFill>
        <p:spPr>
          <a:xfrm>
            <a:off x="6550200" y="304920"/>
            <a:ext cx="2108160" cy="312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28600" y="3871800"/>
            <a:ext cx="388620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1182960" cy="1212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974880" cy="1295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981080" y="304920"/>
            <a:ext cx="1211400" cy="1600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1122480" cy="1218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rcRect l="0" t="0" r="62115" b="0"/>
          <a:stretch/>
        </p:blipFill>
        <p:spPr>
          <a:xfrm>
            <a:off x="7543800" y="228600"/>
            <a:ext cx="1028880" cy="1523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143000" y="2743200"/>
            <a:ext cx="1368360" cy="995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3505320" y="2362320"/>
            <a:ext cx="874440" cy="1409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5105520" y="4495680"/>
            <a:ext cx="687240" cy="1282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858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8195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743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1828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32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8381880" y="159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4038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2670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657600" y="5943600"/>
            <a:ext cx="48006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la mia famiglia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1182960" cy="1212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97488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981080" y="304920"/>
            <a:ext cx="121140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1122480" cy="121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rcRect l="0" t="0" r="62115" b="0"/>
          <a:stretch/>
        </p:blipFill>
        <p:spPr>
          <a:xfrm>
            <a:off x="7543800" y="228600"/>
            <a:ext cx="1028880" cy="1523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1143000" y="2743200"/>
            <a:ext cx="1368360" cy="995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3505320" y="2362320"/>
            <a:ext cx="874440" cy="1409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5105520" y="4495680"/>
            <a:ext cx="687240" cy="1282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858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8195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2743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1828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32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381880" y="159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4038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2670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657600" y="5943600"/>
            <a:ext cx="48006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la mia famiglia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4191120"/>
            <a:ext cx="2438280" cy="1600200"/>
          </a:xfrm>
          <a:prstGeom prst="wedgeEllipseCallout">
            <a:avLst>
              <a:gd name="adj1" fmla="val 26953"/>
              <a:gd name="adj2" fmla="val -12648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sta e’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a famigli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o mi chiamo Danie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5248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pa, Marco Seraf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304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mma, Sara Pitrel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18288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o suocero, Michele Ros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0120" y="1752480"/>
            <a:ext cx="1066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a suocera, Maria Sere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4876920"/>
            <a:ext cx="243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o figlio, Michele Stec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36576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o marito, Mario C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37339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a sorella Giu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22860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 SONO IL PADRE DELLA RAGAZZA CHE PARLA.  FACCIO IL CUOCO ED HO DUE FIGL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228600"/>
            <a:ext cx="47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CIO LA STILISTA E SONO LA PROTAGONISTA DELLA STORIA.  MIO PADRE E’ MARCO.  MI CHIAMO DANI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4382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 SONO SARA E UNA DELLE MIE FIGLIE E’ PI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8098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 CHIAMO GIULIA E HO UN COG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4800" y="23623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MICHELE IL NONNO DEL PICCOLO MICHELE.  FACCIO L’AVVOC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6576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 SONO IL PIU’ PICCOLO DELLA FAMIG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52578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A MOGLIE E’ STILISTA.  IO FACCIO IL CAMERI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5029200"/>
            <a:ext cx="426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 UN FIGLIO DI NOME MARIO E SONO NON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 CHIAMO 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21:44:05Z</dcterms:created>
  <dc:creator>Preferred Customer</dc:creator>
  <dc:description/>
  <dc:language>en-US</dc:language>
  <cp:lastModifiedBy>VALERIA PALLADINO</cp:lastModifiedBy>
  <cp:lastPrinted>2003-03-10T01:39:12Z</cp:lastPrinted>
  <dcterms:modified xsi:type="dcterms:W3CDTF">2003-10-16T15:18:41Z</dcterms:modified>
  <cp:revision>10</cp:revision>
  <dc:subject/>
  <dc:title>No Slide Title</dc:title>
</cp:coreProperties>
</file>